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315"/>
        <c:axId val="66182779"/>
      </c:barChart>
      <c:catAx>
        <c:axId val="578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82779"/>
        <c:crosses val="autoZero"/>
        <c:auto val="1"/>
        <c:lblAlgn val="ctr"/>
        <c:lblOffset val="100"/>
        <c:noMultiLvlLbl val="0"/>
      </c:catAx>
      <c:valAx>
        <c:axId val="66182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751-10EA-4769-BDEE-7302EF2B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280-2F7A-4960-AAC8-386F3DB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06E-4191-4D13-A549-92BCE45A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6F8-C74C-4A51-9732-31AC8369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905-3394-4956-98EB-BC4A8570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E0F-820C-4159-AA46-446C27AA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A36-9C3B-494A-8059-DE017F1D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C08-AEB8-4F64-B312-51549C26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291-F14E-4BF3-AF57-F2D818AC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225-BF63-4EDC-A067-F5F8B1B4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304-546B-4395-993E-ACCD71C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B33-633A-48F2-A9DC-E6902D0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D311C-9DE3-461E-9728-517C19760C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