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9725"/>
        <c:axId val="52968065"/>
      </c:barChart>
      <c:catAx>
        <c:axId val="2319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68065"/>
        <c:crosses val="autoZero"/>
        <c:auto val="1"/>
        <c:lblAlgn val="ctr"/>
        <c:lblOffset val="100"/>
        <c:noMultiLvlLbl val="0"/>
      </c:catAx>
      <c:valAx>
        <c:axId val="52968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9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E5A-65CF-4F3C-BC61-A67B873A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011-1E86-457A-9D36-14CF484E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0E9-3336-4CCD-8BAC-C101EFC3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33C-173B-4B26-B374-2F3DCBF5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059-80D5-4735-9A30-4BB83F07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863-095A-49E4-B882-4099527B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37A-52A0-460D-9553-05A1D3B0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8A7-4A72-4D8F-A063-C0683898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C92-059B-4328-BB47-AC80B8C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C42-D02A-42A8-8789-3D87A36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96C-F6A7-4C45-835A-75D5C202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F51-4A70-435B-A5BF-E34447D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7EA2B-44BE-44C3-8E62-5B3102B61D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